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843-2408-4421-878E-9BACABB5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8AF-0C75-4791-AE1A-F79E479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692B7-78E6-4837-8617-8792597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6D8D-746D-45CA-B410-45B0B8C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E5F64-DEAE-4AF9-A862-0E86FD2C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6C210-7FC0-4DFF-97A3-D0DE1BA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634C5-C303-487A-A472-6F6A9CA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0E2F4-41A9-4383-B6F7-532ECA4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48115-11C7-4EB6-834B-DD6D2761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A8B4C-0279-48F0-98E7-8FBEC5F6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5D702-F114-477A-A232-ED0D30EF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2F7-B70A-4140-8C44-5EB66691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4C5-221E-4131-A2B2-E157E8CE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A96-D6E7-4143-B20A-D489B7A6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617F-F6D8-4492-8B60-954EA34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F228-FF20-4CE4-887C-F3EA11A5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7CB4-C56F-4EF7-9835-13222D81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6EC2-3D6E-4BE7-B5A4-9F5AA40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9264-F666-4570-B4F8-D2B446C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FA46-2E1A-4AEE-AD98-76FF82D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6C4-8E29-44C8-ACD5-205D758F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C6BB-A11C-4A29-87EA-1A0207F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39E-1183-408C-93FD-DA90546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0C85-A6EB-48F4-82D5-B88BFF9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75C4-9289-4ABA-97DD-7A8619A2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FCEE-D896-468F-9D08-94536AB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4EF3-635B-44C4-972C-98ACE3C8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81C3-D522-4119-B547-AF41861F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8A24-1242-404E-A287-85978AB8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1AC2-3FDA-4324-9AF8-67148EA4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F290-BCF2-4E10-819E-234DCFB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5C1-480B-4B6F-9FB2-C91A62A2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6F7B-59AE-411A-9A9F-CE88475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5DC1-511E-4D6E-A1CB-947AC29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88B7-89ED-43A5-A0BF-2110446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EA88-2F52-40B9-8D37-98F71F6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7560-54D8-443D-91A4-219A7B5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67E4-2FDE-4579-95F1-827E92D2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FA5E-9FEB-4781-B3C6-3525C82A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C7B0-C7B7-4C7A-A583-9054E617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E2AC-11CF-4044-94F7-D731F45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E909-028C-40DF-B025-DEAAE8D2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E04-16E8-43D5-97A6-D24B8A5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9C15-0658-4F7D-812D-4C10FA56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EDED-B910-4B4B-9F36-458BC8E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720C-DAA9-4FF1-947B-8FE7939E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F784-2A00-44A9-86EF-3B528B09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8F79-93DF-4782-A2B0-089AA92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C4DB-544A-4A73-BD21-7DA6432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D937-B05A-474F-9E0B-08DBBBB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463C-8D7D-48BB-B7E1-017B10FC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C594-6207-4D25-85F4-00A00E95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3E194-1DAA-4332-8D8C-C11F9023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339-7322-402D-8335-280A058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4DA3-CED1-4CB3-BC98-F1C29E1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6357-B45A-4347-9DF9-5A847E8A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FBEC-03D8-4497-841D-5C0E779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4575-C8B1-4359-A986-110E467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5C6E-B677-4E35-9D6E-1F2CFA54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375F-169A-4983-9B1A-312FAD38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6ABC-4175-4CA8-A3E5-8160854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73790-39AC-41EC-AAEE-C7B9A3D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54FD3-13D5-4E51-9FDE-B7C7E48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9938-75FB-4BF2-BF6B-DC4C63DB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6F4-0AC0-4E1F-A04D-6AD0CE79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0C5A-779F-4B09-AFE6-B0536FE8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1E00-A456-46D6-9D29-06DDE1F0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07AE-2388-49FB-B8AF-208F19CE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BADF-015D-40CA-BD80-E64A996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A08A5-AAA1-40A2-94C6-54935AD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1FAB-CF4F-4B61-8583-AA2CE379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3791B-2FC8-4DF9-9653-C803D2E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ABEF-711A-4CA5-A712-FDF689C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461B-DF08-4851-AB90-B27507A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8453-9CEF-4555-BC12-BA29A21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AFC-C91C-40A0-AB7F-47314A6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A4B07-2359-4294-9389-3E759930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EE63-488E-432F-8411-8E9DC926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466D0-7142-47C5-A7A8-1F465205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59153-DD8C-4B3E-B646-9D51415B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146D-C11D-44FF-B9CF-DD7D94E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8C99-409D-4053-A5CF-C011649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79E1-08C2-4A77-8C2C-A4FF07F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745E-2780-4BC3-9B5B-FA726CD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46E9-9331-4452-931F-0DC4FA5F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217B-10AC-4BF7-BAFE-BFB6907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FBF-034B-41A5-990C-27DD6E6B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F59EE-8811-49E1-83C0-7723217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9294-710A-4E05-A3CA-94AC4F7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A8F0-E888-4D4E-8B73-975AEE9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8C0E-01A6-401B-B22C-AFADFC27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D00BE-DB0F-4153-9970-2F2FC29F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D5247-57A2-4ABE-9AC6-8A76F2FF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6213E-B44D-4A5F-AD33-042D5358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B4E0-EC09-4A70-8DAB-0CD3111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D0F63-2888-4379-A13E-F90B7162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06B6-0869-4671-BBC3-956F747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9DE-AC28-4610-A921-E7065E8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39CF1-6747-472B-8BC9-C92673B5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29E17-BFA0-42AB-A2D3-1971731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4028-D914-4868-A59F-AC92975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647DD-FEBE-42F3-BE3A-5477472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236DA-7229-4D2A-A53F-A9E93955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76DE3-8101-4B8D-8E66-25B812DC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11D6-973E-4637-A637-5062CE5B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1E704-3507-4F75-9135-7432AF7A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C7F00-E438-4AAD-B5C3-F9FCB79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D2B1F-9332-484F-80A5-DD4BFBB6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C04-4240-411C-89A6-3F472A970E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2B61-431E-4B68-B68B-488CD65515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288D-167D-4522-A376-82A858B682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EC9D-BB51-470A-BB08-69604268A5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C0A-1210-4D37-A0F3-A3479C86AF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B9E3-2C03-4838-981E-C92BB0589E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3FA-DA14-419D-9B11-ADBA843707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9B28-6A3C-4B64-B408-C392742027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BD28-C152-42D0-B833-ACF223463A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portal-slovo.ru/philology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3333600"/>
            <a:ext cx="8663040" cy="2749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691920"/>
            <a:ext cx="84582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ые предложения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роки создания проекта: 2 недели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.Г.Бархударов Русский язык 9 класс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www.portal-slovo.ru/philolog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ишератина Екатерина, студентка 341 групп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4200" y="99972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Лиса Алиса была якобы хромая, кот Базилио притворялся слепым, хотя зрение у него было совсем как у кошки, но неопытный Буратино сразу поверил мошенникам и пожалел их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07136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едложение как единица синтаксиса (и простое, и сложное) должно обладать такими признаками, как относительная смысловая законченность и интонационное единств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99972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Буратино не смог решить предложенную Мальвиной задачу. Он ни разу не был в школе. – Буратино не смог решить предложенную Мальвиной задачу, так как  ни разу не был в школ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14200" y="428760"/>
            <a:ext cx="868680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Основополагающий вопрос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В чем красота сложных предложений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1160" y="324000"/>
            <a:ext cx="8697600" cy="1266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</a:rPr>
              <a:t>Какую роль играет изучение сложносочиненных предложений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697960" cy="1389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</a:rPr>
              <a:t>Какие бывают сложносочиненные предложения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</a:rPr>
              <a:t>Как отделяются друг от друга простые предложения, входящие в сложносочиненное предложение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1. Сложносочинённое предложение и знаки препинания в н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2. Сложносочиненное предложение и его ви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3-4. Виды   сложносочинённых   предложе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5. Использование   сложносочинённых   предложений   в тек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6. Контрольный   диктант по теме: «Сложносочинённые   предложения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7. Представление проектов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нтрольная рабо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укл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зентац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нгазе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16:50Z</dcterms:created>
  <dc:creator>Пользователь</dc:creator>
  <dc:description/>
  <dc:language>en-US</dc:language>
  <cp:lastModifiedBy>студент</cp:lastModifiedBy>
  <dcterms:modified xsi:type="dcterms:W3CDTF">2011-04-05T11:18:54Z</dcterms:modified>
  <cp:revision>13</cp:revision>
  <dc:subject/>
  <dc:title>Слайд 1</dc:title>
</cp:coreProperties>
</file>